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C249-6DB9-4A37-83F8-62C8CF02C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DEE0-F7B5-4904-81F3-45395D6A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24FF-3E6D-46DF-A95C-F46F553A0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C0E7-0830-416B-9001-EBA46581B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96D1-9249-4C37-9263-D2645058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D0AC-F901-47D1-A936-171A0768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141F-3E68-463D-9ED9-FDE61A17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96FC-FBDF-4BD9-9C55-8C24AF41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542A-A642-4D78-AE4F-300370C5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0A51-E7AB-4D04-947B-DA235F78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8506-719D-4FDA-885A-9CB13F63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6CBA-52B0-4932-A62A-AB496C47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3B87-6315-4172-86F0-8BC2E08AA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c4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 flipV="1">
            <a:off x="1371600" y="2361960"/>
            <a:ext cx="1295280" cy="2971800"/>
          </a:xfrm>
          <a:prstGeom prst="line">
            <a:avLst/>
          </a:prstGeom>
          <a:ln w="255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3504960" y="5715000"/>
            <a:ext cx="1143000" cy="0"/>
          </a:xfrm>
          <a:prstGeom prst="line">
            <a:avLst/>
          </a:prstGeom>
          <a:ln w="255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5715000"/>
            <a:ext cx="2361960" cy="0"/>
          </a:xfrm>
          <a:prstGeom prst="line">
            <a:avLst/>
          </a:prstGeom>
          <a:ln w="255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86400" y="2438280"/>
            <a:ext cx="0" cy="2438640"/>
          </a:xfrm>
          <a:prstGeom prst="line">
            <a:avLst/>
          </a:prstGeom>
          <a:ln w="255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1562040"/>
            <a:ext cx="2361960" cy="0"/>
          </a:xfrm>
          <a:prstGeom prst="line">
            <a:avLst/>
          </a:prstGeom>
          <a:ln w="255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1562040"/>
            <a:ext cx="2743200" cy="0"/>
          </a:xfrm>
          <a:prstGeom prst="line">
            <a:avLst/>
          </a:prstGeom>
          <a:ln w="255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647640"/>
            <a:ext cx="1752840" cy="17528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685800"/>
            <a:ext cx="1752480" cy="17524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Locate Acc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1257480"/>
            <a:ext cx="2438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0000"/>
                </a:solidFill>
                <a:latin typeface="Tahoma"/>
              </a:rPr>
              <a:t>ILocateCommandEv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238880" y="1104840"/>
            <a:ext cx="1676520" cy="9144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Save </a:t>
            </a:r>
            <a:br>
              <a:rPr sz="1600"/>
            </a:b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element reference</a:t>
            </a:r>
            <a:br>
              <a:rPr sz="1600"/>
            </a:b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 &amp; origin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4876920"/>
            <a:ext cx="1752480" cy="17524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</a:rPr>
              <a:t>Data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8880" y="5257800"/>
            <a:ext cx="1676520" cy="9144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Save </a:t>
            </a:r>
            <a:br>
              <a:rPr sz="1600"/>
            </a:b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rget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5257800"/>
            <a:ext cx="1676520" cy="9144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Move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4274280" y="3405960"/>
            <a:ext cx="266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0000"/>
                </a:solidFill>
                <a:latin typeface="Tahoma"/>
              </a:rPr>
              <a:t>IPrimitiveCommandEv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3988800">
            <a:off x="1586160" y="3382560"/>
            <a:ext cx="83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Re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15228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State Diagram for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Move Element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MV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0800" y="6477120"/>
            <a:ext cx="25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Copyright </a:t>
            </a:r>
            <a:r>
              <a:rPr b="0" lang="en-US" sz="1200" spc="-1" strike="noStrike">
                <a:solidFill>
                  <a:srgbClr val="808080"/>
                </a:solidFill>
                <a:latin typeface="Tahoma"/>
                <a:ea typeface="Times New Roman"/>
              </a:rPr>
              <a:t>© 2005 LA Solutions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6400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LA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7T10:06:26Z</dcterms:created>
  <dc:creator>Jon Summers</dc:creator>
  <dc:description/>
  <dc:language>en-US</dc:language>
  <cp:lastModifiedBy>Jon Summers</cp:lastModifiedBy>
  <dcterms:modified xsi:type="dcterms:W3CDTF">2005-04-18T07:58:18Z</dcterms:modified>
  <cp:revision>4</cp:revision>
  <dc:subject/>
  <dc:title>PowerPoint Presentation</dc:title>
</cp:coreProperties>
</file>